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5.jpeg" ContentType="image/jpeg"/>
  <Override PartName="/ppt/media/image35.png" ContentType="image/png"/>
  <Override PartName="/ppt/media/image20.png" ContentType="image/png"/>
  <Override PartName="/ppt/media/image9.png" ContentType="image/png"/>
  <Override PartName="/ppt/media/image30.png" ContentType="image/png"/>
  <Override PartName="/ppt/media/image8.jpeg" ContentType="image/jpeg"/>
  <Override PartName="/ppt/media/image7.jpeg" ContentType="image/jpeg"/>
  <Override PartName="/ppt/media/image28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36.png" ContentType="image/png"/>
  <Override PartName="/ppt/media/image18.png" ContentType="image/png"/>
  <Override PartName="/ppt/media/image6.jpeg" ContentType="image/jpeg"/>
  <Override PartName="/ppt/media/image13.png" ContentType="image/png"/>
  <Override PartName="/ppt/media/image37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A860-1E88-43A0-AB5D-EA046B541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0BCC-F525-420B-ADEA-9B8B2216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A0C5-4081-4608-BE9C-2071AC163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2F2E-46EB-439A-9693-018688385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3C0B-09D9-40F6-BAD5-8F59F7A7D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77B6-DF2C-4D46-BB36-B9A8BD6D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7A30-F352-4E35-BF0A-F4DA79D3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CD44-49A9-4DCF-9B94-C0E1EEBD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ED6F-914B-46BD-91FB-7860E5B2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DE52-6B75-4F9B-8A60-C34EB93A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00DA-1792-4C53-B083-A8F7D131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84DF-B8A1-4F80-B17C-121B362B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F461-0363-433B-9823-FFF2B11B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0C46-0E37-4701-9FE3-38952953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F668-5E95-4834-824D-B23DFD0E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A884-1A00-4709-BF42-6034DC4B8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80AA-628B-4465-B4A7-D5A71AF59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D8A23-190E-441F-96D1-9B8A7FE86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8CC82-0A5B-419C-9EB7-BFBA13EF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7EB26-1DFE-498A-A3FA-CA3ADFD2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86787-805E-4817-99D0-33A27D37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844E7-930B-49FD-92E7-2012A9E3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F104-EA86-4C2A-83E2-6CB3248A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70F10-B88C-4E59-AC78-243F0EAF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7A30C-E1D3-49B2-A47D-2F4F6ED1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AAC60-02B9-4E0B-A226-B2CBF560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7A573-C712-424B-8FA8-94444E77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9109D-4EB6-4BA0-8F31-1F77E7F9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D0E95-E52E-4CE6-B6B3-20A4B213B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93692-7520-4D0F-95CC-98BCD3E6E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CD723-3508-448F-B711-1C0325430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645C3-F022-421B-B063-4B087B68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6C918-36DB-46B4-8220-B91A41DF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329C-8C19-4017-9A53-0416A229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665F3-0DC0-4698-ADB4-A2A071E2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611F7-AA64-4D28-B903-D929F53D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741CE-9BEB-41A9-B4AE-542D7CB4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7D2B8-1DE4-4F0F-989C-74030A18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51028-DB2A-42AD-A0FE-39616B9C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8C0D8-1F68-4BF4-8B6C-4263A8E3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1BB6E-331A-448D-B31D-BCC0C3B8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F8C5D-0AC3-40F0-B9B2-35C71EB64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71FE0-EF8C-4DE4-A6E7-982A579E3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2F950-591F-43B9-BBF7-ECA5D50C2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4D85-489D-4406-9F66-FD665B59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3B712-4DCA-4D73-BFED-336F30AE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850F7-E6BD-4EF9-9DFD-A7EF626E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40C24-8C3D-432E-9687-FCA68561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B32B8-9ECC-43D6-B407-55E522B4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1C2A2-0C31-45DA-ACAC-92519D5D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5B573-2119-453D-BE2D-B951D522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2D1EA-A832-4EC4-A63F-9D7EF3E0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7B1E4-67AE-4A62-A0E4-3CF640F3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52140-AAC8-4146-B0FB-D3B8CF0A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D2CBF-5DE3-4D00-8FEF-A34540AAB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9107-A94A-4F2E-B3D8-BBB64088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87706-5FA1-4D0A-9DD2-9382B2BE0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17ADE-F439-43E7-8ECF-A8227902A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9619D-237B-4E4A-B452-596C20A0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0FFB6-FF31-4111-8BCA-2F41960E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F4C87-B1E4-4150-8EF0-95DC1FFF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688DB-0527-42F7-B434-95255AD6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9A5C5-96F6-46D2-95A4-B0680A90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7A802-F811-4AC3-A8EB-E37823FE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8D5CB-206E-434B-8056-DD99E712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0F5AA-5DEF-4FE9-B836-93456C62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72EF-459A-487B-8FE7-C2CA7DE1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E0661-055D-471A-B769-A76B6DA8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286AB-C3B2-4585-B066-62DA93EF9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F65B9-3B97-424F-B05B-11AFD7399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DFE7C-A0E7-4273-87D1-9A051D0CA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6BF5B-88CD-4717-AC13-BCCA8692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82930-67FF-4CF2-AF68-83E0373D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793A7-DE92-4079-8C42-D1D42BAA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4CF3F-8091-4205-8ED2-8DF885C4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2736C-3BD9-4B0D-AB85-80232D6B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2C385-6091-4019-94BF-5A9B9F51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51B4-FE6A-4E34-983E-D793A5FD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8AB15-418E-4A88-BC9B-67DB3FA6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5ED5D-9ADA-4406-96D6-371E91D3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2D412-70A2-4238-A601-25E336A8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43C41-71BA-4638-ABBF-FA35B3B71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A7694-5004-40A1-BA01-974E8D31A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AD40-86B8-44B7-BDEB-FB1411EC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2C24-DA19-474F-875F-861ECC2AD11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56F4-7C5E-4790-9F4E-E956B54FBAC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9E35-51F5-4ABE-8C71-CB3B348DF05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A913-1FE0-4FB7-82F2-92B28022BB8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00FC-E981-4F70-9F31-C509F015A02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9082-79A4-4A8F-81F0-665CAF90EB6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983C-27D6-46BA-98AD-7F10DA74675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ногогранники-какие они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Авторы: группа исследователей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2" descr="D:\Documents and Settings\Admin\Рабочий стол\iтр.jpeg"/>
          <p:cNvPicPr/>
          <p:nvPr/>
        </p:nvPicPr>
        <p:blipFill>
          <a:blip r:embed="rId1"/>
          <a:stretch/>
        </p:blipFill>
        <p:spPr>
          <a:xfrm>
            <a:off x="1714680" y="3071880"/>
            <a:ext cx="1315800" cy="9874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D:\Documents and Settings\Admin\Рабочий стол\ппрi.jpeg"/>
          <p:cNvPicPr/>
          <p:nvPr/>
        </p:nvPicPr>
        <p:blipFill>
          <a:blip r:embed="rId2"/>
          <a:stretch/>
        </p:blipFill>
        <p:spPr>
          <a:xfrm>
            <a:off x="6072120" y="4357800"/>
            <a:ext cx="1600200" cy="11937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D:\Documents and Settings\Admin\Рабочий стол\i.jpeg"/>
          <p:cNvPicPr/>
          <p:nvPr/>
        </p:nvPicPr>
        <p:blipFill>
          <a:blip r:embed="rId3"/>
          <a:stretch/>
        </p:blipFill>
        <p:spPr>
          <a:xfrm>
            <a:off x="2428920" y="5000760"/>
            <a:ext cx="1434960" cy="13586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D:\Documents and Settings\Admin\Рабочий стол\iпрп.jpeg"/>
          <p:cNvPicPr/>
          <p:nvPr/>
        </p:nvPicPr>
        <p:blipFill>
          <a:blip r:embed="rId4"/>
          <a:stretch/>
        </p:blipFill>
        <p:spPr>
          <a:xfrm>
            <a:off x="4071960" y="2643120"/>
            <a:ext cx="17017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Развертки: тетраэдр, куб, октаэдр, додекаэдр, икосаэдр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95" name="Picture 2" descr="D:\Documents and Settings\Admin\Рабочий стол\1.gif"/>
          <p:cNvPicPr/>
          <p:nvPr/>
        </p:nvPicPr>
        <p:blipFill>
          <a:blip r:embed="rId1"/>
          <a:stretch/>
        </p:blipFill>
        <p:spPr>
          <a:xfrm>
            <a:off x="1071720" y="1500120"/>
            <a:ext cx="3286080" cy="19465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D:\Documents and Settings\Admin\Рабочий стол\0.gif"/>
          <p:cNvPicPr/>
          <p:nvPr/>
        </p:nvPicPr>
        <p:blipFill>
          <a:blip r:embed="rId2"/>
          <a:stretch/>
        </p:blipFill>
        <p:spPr>
          <a:xfrm>
            <a:off x="5888160" y="1000080"/>
            <a:ext cx="3255840" cy="1928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" descr="D:\Documents and Settings\Admin\Рабочий стол\2.gif"/>
          <p:cNvPicPr/>
          <p:nvPr/>
        </p:nvPicPr>
        <p:blipFill>
          <a:blip r:embed="rId3"/>
          <a:stretch/>
        </p:blipFill>
        <p:spPr>
          <a:xfrm>
            <a:off x="1000080" y="3214800"/>
            <a:ext cx="3497400" cy="20714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5" descr="D:\Documents and Settings\Admin\Рабочий стол\4.gif"/>
          <p:cNvPicPr/>
          <p:nvPr/>
        </p:nvPicPr>
        <p:blipFill>
          <a:blip r:embed="rId4"/>
          <a:stretch/>
        </p:blipFill>
        <p:spPr>
          <a:xfrm>
            <a:off x="2928960" y="4929120"/>
            <a:ext cx="3719520" cy="19288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6" descr="D:\Documents and Settings\Admin\Рабочий стол\3.gif"/>
          <p:cNvPicPr/>
          <p:nvPr/>
        </p:nvPicPr>
        <p:blipFill>
          <a:blip r:embed="rId5"/>
          <a:stretch/>
        </p:blipFill>
        <p:spPr>
          <a:xfrm>
            <a:off x="5715000" y="3000240"/>
            <a:ext cx="3286080" cy="19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1434960" y="214200"/>
            <a:ext cx="7499520" cy="60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214280" y="500040"/>
          <a:ext cx="7572600" cy="5214960"/>
        </p:xfrm>
        <a:graphic>
          <a:graphicData uri="http://schemas.openxmlformats.org/drawingml/2006/table">
            <a:tbl>
              <a:tblPr/>
              <a:tblGrid>
                <a:gridCol w="1362240"/>
                <a:gridCol w="1209600"/>
                <a:gridCol w="857160"/>
                <a:gridCol w="1071720"/>
                <a:gridCol w="1709640"/>
                <a:gridCol w="1362240"/>
              </a:tblGrid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Многогранник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Верш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Гр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Рёб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Оси симмет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лоскости симмет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етр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7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ко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ывод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зучив виды правильных многогранников мы пришли к выводу, что существует только 5 видов правильных многогранников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Цели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сследовать многогранники их виды и свойств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ать основные понятия многогранник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ссмотреть их свойства и развертк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пределе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orbel"/>
              </a:rPr>
              <a:t>Многогранник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- геометрическое тело, ограниченное со всех сторон плоскими многоугольниками, называемыми гранями. Стороны граней называются ребрами многогранника, а концы ребер — вершинами многогранника. Многогранник называется выпуклым, если он весь расположен по одну сторону от плоскости каждой из его граней. Выпуклый многогранник называется правильным, если все его грани — правильные одинаковые многоугольники и все многогранные углы при вершинах равны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6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     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Существует 5 видов правильных многогранников: тетраэдр, куб, октаэдр, додекаэдр, икосаэдр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9" name="Picture 2" descr="F:\иикто\многогранники\1.gif"/>
          <p:cNvPicPr/>
          <p:nvPr/>
        </p:nvPicPr>
        <p:blipFill>
          <a:blip r:embed="rId1"/>
          <a:stretch/>
        </p:blipFill>
        <p:spPr>
          <a:xfrm>
            <a:off x="1071720" y="2071800"/>
            <a:ext cx="1447560" cy="12189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" descr="F:\иикто\многогранники\0.gif"/>
          <p:cNvPicPr/>
          <p:nvPr/>
        </p:nvPicPr>
        <p:blipFill>
          <a:blip r:embed="rId2"/>
          <a:stretch/>
        </p:blipFill>
        <p:spPr>
          <a:xfrm>
            <a:off x="1357200" y="3857760"/>
            <a:ext cx="1771920" cy="13143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" descr="F:\иикто\многогранники\2.gif"/>
          <p:cNvPicPr/>
          <p:nvPr/>
        </p:nvPicPr>
        <p:blipFill>
          <a:blip r:embed="rId3"/>
          <a:stretch/>
        </p:blipFill>
        <p:spPr>
          <a:xfrm>
            <a:off x="4000680" y="2071800"/>
            <a:ext cx="1352520" cy="1314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F:\иикто\многогранники\3.gif"/>
          <p:cNvPicPr/>
          <p:nvPr/>
        </p:nvPicPr>
        <p:blipFill>
          <a:blip r:embed="rId4"/>
          <a:stretch/>
        </p:blipFill>
        <p:spPr>
          <a:xfrm>
            <a:off x="7500960" y="2071800"/>
            <a:ext cx="1162080" cy="13143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D:\Documents and Settings\Admin\Рабочий стол\4.gif"/>
          <p:cNvPicPr/>
          <p:nvPr/>
        </p:nvPicPr>
        <p:blipFill>
          <a:blip r:embed="rId5"/>
          <a:stretch/>
        </p:blipFill>
        <p:spPr>
          <a:xfrm>
            <a:off x="5143680" y="3714840"/>
            <a:ext cx="16189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аэдр - “четырехгранник” (в переводе с греческого), у него минимальное число вершин - 4, граней - 4, ребер - 6. Изображают обычно тетраэдр как четырехугольник с диагоналями, одну из которых (соответствующую невидимому ребру) изображают пунктирн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поверхности тетраэдра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=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=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ус описанной сферы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=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ус вписанной сферы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=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Тетраэдр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2" name="Picture 11" descr=""/>
          <p:cNvPicPr/>
          <p:nvPr/>
        </p:nvPicPr>
        <p:blipFill>
          <a:blip r:embed="rId1"/>
          <a:stretch/>
        </p:blipFill>
        <p:spPr>
          <a:xfrm>
            <a:off x="6572160" y="3714840"/>
            <a:ext cx="714600" cy="47628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Picture 13" descr=""/>
          <p:cNvPicPr/>
          <p:nvPr/>
        </p:nvPicPr>
        <p:blipFill>
          <a:blip r:embed="rId2"/>
          <a:stretch/>
        </p:blipFill>
        <p:spPr>
          <a:xfrm>
            <a:off x="3214800" y="4071960"/>
            <a:ext cx="571320" cy="63504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6" name="Picture 15" descr=""/>
          <p:cNvPicPr/>
          <p:nvPr/>
        </p:nvPicPr>
        <p:blipFill>
          <a:blip r:embed="rId3"/>
          <a:stretch/>
        </p:blipFill>
        <p:spPr>
          <a:xfrm>
            <a:off x="5786280" y="4572000"/>
            <a:ext cx="478080" cy="64296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17"/>
          <p:cNvSpPr/>
          <p:nvPr/>
        </p:nvSpPr>
        <p:spPr>
          <a:xfrm>
            <a:off x="0" y="828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9" name="Picture 18" descr=""/>
          <p:cNvPicPr/>
          <p:nvPr/>
        </p:nvPicPr>
        <p:blipFill>
          <a:blip r:embed="rId4"/>
          <a:stretch/>
        </p:blipFill>
        <p:spPr>
          <a:xfrm>
            <a:off x="5572080" y="5143680"/>
            <a:ext cx="428760" cy="57600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20"/>
          <p:cNvSpPr/>
          <p:nvPr/>
        </p:nvSpPr>
        <p:spPr>
          <a:xfrm>
            <a:off x="0" y="828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Гексаэдр (Куб)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914400" y="1142640"/>
            <a:ext cx="82296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 составлен из шести квадратов. Каждая его вершина является вершиной трех квадрат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 имеет центр симметрии - центр куба, 9 осей симметрии и 9 плоскостей симметр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ус описанной сферы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=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ус вписанной сферы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=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поверхности куба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=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 куба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=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4" name="Picture 10" descr=""/>
          <p:cNvPicPr/>
          <p:nvPr/>
        </p:nvPicPr>
        <p:blipFill>
          <a:blip r:embed="rId1"/>
          <a:stretch/>
        </p:blipFill>
        <p:spPr>
          <a:xfrm>
            <a:off x="5286240" y="2714760"/>
            <a:ext cx="419400" cy="56340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6" name="Picture 12" descr=""/>
          <p:cNvPicPr/>
          <p:nvPr/>
        </p:nvPicPr>
        <p:blipFill>
          <a:blip r:embed="rId2"/>
          <a:stretch/>
        </p:blipFill>
        <p:spPr>
          <a:xfrm>
            <a:off x="5214960" y="3214800"/>
            <a:ext cx="285840" cy="54108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8" name="Picture 14" descr=""/>
          <p:cNvPicPr/>
          <p:nvPr/>
        </p:nvPicPr>
        <p:blipFill>
          <a:blip r:embed="rId3"/>
          <a:stretch/>
        </p:blipFill>
        <p:spPr>
          <a:xfrm>
            <a:off x="5715000" y="3714840"/>
            <a:ext cx="285840" cy="3808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0" name="Picture 16" descr=""/>
          <p:cNvPicPr/>
          <p:nvPr/>
        </p:nvPicPr>
        <p:blipFill>
          <a:blip r:embed="rId4"/>
          <a:stretch/>
        </p:blipFill>
        <p:spPr>
          <a:xfrm>
            <a:off x="3571920" y="4143240"/>
            <a:ext cx="3571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ктаэдр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многогранник, составленный из 8 равносторонних треугольник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таэдр имеет 6 вершин и 12 рёбер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 длин всех ребер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поверхности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= 2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ус описанной сферы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ус вписанной сферы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3" name="Picture 2" descr="D:\Documents and Settings\Admin\Рабочий стол\rad.gif"/>
          <p:cNvPicPr/>
          <p:nvPr/>
        </p:nvPicPr>
        <p:blipFill>
          <a:blip r:embed="rId1"/>
          <a:stretch/>
        </p:blipFill>
        <p:spPr>
          <a:xfrm>
            <a:off x="5500800" y="4500720"/>
            <a:ext cx="1143000" cy="64296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6" name="Picture 3" descr=""/>
          <p:cNvPicPr/>
          <p:nvPr/>
        </p:nvPicPr>
        <p:blipFill>
          <a:blip r:embed="rId2"/>
          <a:stretch/>
        </p:blipFill>
        <p:spPr>
          <a:xfrm>
            <a:off x="5643720" y="3214800"/>
            <a:ext cx="571320" cy="38088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8" name="Picture 5" descr=""/>
          <p:cNvPicPr/>
          <p:nvPr/>
        </p:nvPicPr>
        <p:blipFill>
          <a:blip r:embed="rId3"/>
          <a:stretch/>
        </p:blipFill>
        <p:spPr>
          <a:xfrm>
            <a:off x="3500280" y="3714840"/>
            <a:ext cx="571680" cy="46836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7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1" name="Picture 8" descr=""/>
          <p:cNvPicPr/>
          <p:nvPr/>
        </p:nvPicPr>
        <p:blipFill>
          <a:blip r:embed="rId4"/>
          <a:stretch/>
        </p:blipFill>
        <p:spPr>
          <a:xfrm>
            <a:off x="5715000" y="4000680"/>
            <a:ext cx="500040" cy="56808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10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одекаэдр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многогранник, составленный из 12 равносторонних пятиугольников. Додекаэдр имеет 20 вершин и 30 ребер. Вершина додекаэдра является вершиной трех пятиугольников, таким образом, сумма плоских углов при каждой вершине равна 324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 длин всех ребер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а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поверхност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 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ус вписанной сферы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ус описанной сферы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5" name="Picture 2" descr="D:\Documents and Settings\Admin\Рабочий стол\rad1.gif"/>
          <p:cNvPicPr/>
          <p:nvPr/>
        </p:nvPicPr>
        <p:blipFill>
          <a:blip r:embed="rId1"/>
          <a:stretch/>
        </p:blipFill>
        <p:spPr>
          <a:xfrm>
            <a:off x="5929200" y="5429160"/>
            <a:ext cx="1500480" cy="7858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D:\Documents and Settings\Admin\Рабочий стол\plo.gif"/>
          <p:cNvPicPr/>
          <p:nvPr/>
        </p:nvPicPr>
        <p:blipFill>
          <a:blip r:embed="rId2"/>
          <a:stretch/>
        </p:blipFill>
        <p:spPr>
          <a:xfrm>
            <a:off x="5214960" y="4143240"/>
            <a:ext cx="2041560" cy="5382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D:\Documents and Settings\Admin\Рабочий стол\ob1.gif"/>
          <p:cNvPicPr/>
          <p:nvPr/>
        </p:nvPicPr>
        <p:blipFill>
          <a:blip r:embed="rId3"/>
          <a:stretch/>
        </p:blipFill>
        <p:spPr>
          <a:xfrm>
            <a:off x="3214800" y="4643280"/>
            <a:ext cx="1214280" cy="41940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9" name="Picture 1" descr=""/>
          <p:cNvPicPr/>
          <p:nvPr/>
        </p:nvPicPr>
        <p:blipFill>
          <a:blip r:embed="rId4"/>
          <a:stretch/>
        </p:blipFill>
        <p:spPr>
          <a:xfrm>
            <a:off x="5715000" y="5000760"/>
            <a:ext cx="949320" cy="51408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3"/>
          <p:cNvSpPr/>
          <p:nvPr/>
        </p:nvSpPr>
        <p:spPr>
          <a:xfrm>
            <a:off x="0" y="828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Икосаэдр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выпуклый многогранник, составленный из 20 правильных треугольников. Каждая из 12 вершин икосаэдра является вершиной 5 равносторонних треугольников, поэтому сумма углов при вершине равна 300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 длин всех ребер 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поверхности 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= 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 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ус вписанной сферы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ус описанной сферы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=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4" name="Picture 1" descr=""/>
          <p:cNvPicPr/>
          <p:nvPr/>
        </p:nvPicPr>
        <p:blipFill>
          <a:blip r:embed="rId1"/>
          <a:stretch/>
        </p:blipFill>
        <p:spPr>
          <a:xfrm>
            <a:off x="5786280" y="3857760"/>
            <a:ext cx="500400" cy="33336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6" name="Picture 3" descr=""/>
          <p:cNvPicPr/>
          <p:nvPr/>
        </p:nvPicPr>
        <p:blipFill>
          <a:blip r:embed="rId2"/>
          <a:stretch/>
        </p:blipFill>
        <p:spPr>
          <a:xfrm>
            <a:off x="3857760" y="4214880"/>
            <a:ext cx="1250640" cy="50004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5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9" name="Picture 6" descr=""/>
          <p:cNvPicPr/>
          <p:nvPr/>
        </p:nvPicPr>
        <p:blipFill>
          <a:blip r:embed="rId3"/>
          <a:stretch/>
        </p:blipFill>
        <p:spPr>
          <a:xfrm>
            <a:off x="5786280" y="4643280"/>
            <a:ext cx="1192320" cy="50040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8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2" name="Picture 9" descr=""/>
          <p:cNvPicPr/>
          <p:nvPr/>
        </p:nvPicPr>
        <p:blipFill>
          <a:blip r:embed="rId4"/>
          <a:stretch/>
        </p:blipFill>
        <p:spPr>
          <a:xfrm>
            <a:off x="5715000" y="5143680"/>
            <a:ext cx="1251000" cy="50004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11"/>
          <p:cNvSpPr/>
          <p:nvPr/>
        </p:nvSpPr>
        <p:spPr>
          <a:xfrm>
            <a:off x="0" y="81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5:02:29Z</dcterms:created>
  <dc:creator>26525</dc:creator>
  <dc:description/>
  <dc:language>en-US</dc:language>
  <cp:lastModifiedBy>Admin</cp:lastModifiedBy>
  <dcterms:modified xsi:type="dcterms:W3CDTF">2010-05-13T15:11:44Z</dcterms:modified>
  <cp:revision>23</cp:revision>
  <dc:subject/>
  <dc:title>Многогранники-какие они?</dc:title>
</cp:coreProperties>
</file>